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43463" cy="42775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56D-CF32-48F3-A47F-235B108E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272178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360" y="24725160"/>
            <a:ext cx="272178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F7F-AF00-454C-8AFC-CE5F6A1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36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912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C47-AA97-4BF2-B50D-1510B5A5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14680" y="998064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17360" y="998064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360" y="2472516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14680" y="2472516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17360" y="24725160"/>
            <a:ext cx="876384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E47-5797-4589-B7C7-0A9A722C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360" y="9980640"/>
            <a:ext cx="27217800" cy="28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027-80C8-433F-A7EE-04CF9854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272178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98E-204F-4CB5-9172-3124EA71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8BE-7611-49FF-982E-2F8D3E6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AFA-1F56-41BF-93E4-9956711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2360" y="1712880"/>
            <a:ext cx="27217800" cy="330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30C-CDC9-44B9-A652-66D9E774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36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5B5-04A2-4646-985E-9D9B5E9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9120" y="2472516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4DE-F2CF-4418-9B46-F303195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36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9120" y="9980640"/>
            <a:ext cx="132822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360" y="24725160"/>
            <a:ext cx="27217800" cy="1346508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2040"/>
                <a:tab algn="l" pos="834408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1CA-73D7-4C2C-88B7-0213213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2360" y="1712880"/>
            <a:ext cx="27217800" cy="71294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2360" y="9980640"/>
            <a:ext cx="27217800" cy="282290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marL="1563840" indent="-156384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1" marL="3389400" indent="-130356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2" marL="5214960" indent="-104292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3" marL="7300800" indent="-104292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4" marL="938700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5" marL="938700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6" marL="938700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2720" y="38952000"/>
            <a:ext cx="7056720" cy="297036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>
              <a:buNone/>
              <a:tabLst>
                <a:tab algn="l" pos="0"/>
                <a:tab algn="l" pos="4172040"/>
                <a:tab algn="l" pos="834408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33080" y="38952000"/>
            <a:ext cx="9577440" cy="297036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 algn="ctr">
              <a:buNone/>
              <a:tabLst>
                <a:tab algn="l" pos="0"/>
                <a:tab algn="l" pos="4172040"/>
                <a:tab algn="l" pos="834408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73800" y="38952000"/>
            <a:ext cx="7056360" cy="297036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 algn="r">
              <a:buNone/>
              <a:tabLst>
                <a:tab algn="l" pos="0"/>
                <a:tab algn="l" pos="4172040"/>
                <a:tab algn="l" pos="834408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72040"/>
                <a:tab algn="l" pos="8344080"/>
              </a:tabLst>
            </a:pPr>
            <a:fld id="{7CA805AB-23AC-4729-937E-6D7E309A9029}" type="slidenum">
              <a:rPr b="0" lang="en-US" sz="6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0" y="1225440"/>
            <a:ext cx="28155960" cy="40539960"/>
          </a:xfrm>
          <a:prstGeom prst="rect">
            <a:avLst/>
          </a:prstGeom>
          <a:noFill/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2000" y="8210520"/>
            <a:ext cx="25923960" cy="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2000" y="12385800"/>
            <a:ext cx="25923960" cy="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24360" y="1873080"/>
            <a:ext cx="25202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72040"/>
                <a:tab algn="l" pos="8344080"/>
              </a:tabLst>
            </a:pPr>
            <a:r>
              <a:rPr b="0" lang="pt-PT" sz="6600" spc="-1" strike="noStrike">
                <a:solidFill>
                  <a:srgbClr val="000000"/>
                </a:solidFill>
                <a:latin typeface="Arial Unicode MS"/>
              </a:rPr>
              <a:t>REPÚBLICA DE MOÇAMBIQ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2040"/>
                <a:tab algn="l" pos="8344080"/>
              </a:tabLst>
            </a:pPr>
            <a:r>
              <a:rPr b="0" lang="pt-PT" sz="6600" spc="-1" strike="noStrike">
                <a:solidFill>
                  <a:srgbClr val="000000"/>
                </a:solidFill>
                <a:latin typeface="Arial Unicode MS"/>
              </a:rPr>
              <a:t>MINISTÉRIO DA ENE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2040"/>
                <a:tab algn="l" pos="834408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Arial Unicode MS"/>
              </a:rPr>
              <a:t>DIRECÇÃO NACIONAL DE ENERGIAS NOVAS E RENOVÁVE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720" y="8282160"/>
            <a:ext cx="2592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172040"/>
                <a:tab algn="l" pos="834408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omic Sans MS"/>
              </a:rPr>
              <a:t>Promover o uso sustentável dos recursos de energia, através da diversificação das fontes de energia por forma a perservar as fontes de energia de biomassa e estimular o uso de fontes de energia benignas para o meio ambien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80720" y="10874520"/>
            <a:ext cx="175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172040"/>
                <a:tab algn="l" pos="834408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Arial"/>
              </a:rPr>
              <a:t>Programa quinquenal do governo de Moçambique (2005-2009). Aprovado através da resolução 16/2005, de 11 de Maio, In “Boletim da República N</a:t>
            </a:r>
            <a:r>
              <a:rPr b="0" i="1" lang="pt-PT" sz="36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PT" sz="3600" spc="-1" strike="noStrike">
                <a:solidFill>
                  <a:srgbClr val="000000"/>
                </a:solidFill>
                <a:latin typeface="Arial"/>
              </a:rPr>
              <a:t>19 1ª Séri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87640" y="13033440"/>
            <a:ext cx="26068320" cy="82803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4172040"/>
                <a:tab algn="l" pos="8344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De que modo é que o GelFuel pode contribuir positivamente para Moçambiqu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odo de cozinha com aquecimento seguro e rápido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ficaz e econ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ó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ico comparativamente a m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odos existentes (petróleo, carv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e lenh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nefícios para a Sa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– n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tóxico, 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utro, n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emite fumos quando utilizado para a cozinha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nef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ios para o meio ambiente –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uma energia renov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el e contribui para a redu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ç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da desfloresta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çã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 no nosso Pai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4172040"/>
                <a:tab algn="l" pos="83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á às comunidades o previlégio de possuirem a sua própria fonte de energ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61800" y="4681440"/>
            <a:ext cx="4104000" cy="353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52360" y="1440000"/>
            <a:ext cx="2880000" cy="26398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440000" y="21747240"/>
            <a:ext cx="26860320" cy="19729440"/>
            <a:chOff x="1440000" y="21747240"/>
            <a:chExt cx="26860320" cy="1972944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729800" y="30098880"/>
              <a:ext cx="7344000" cy="610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1440000" y="21747240"/>
              <a:ext cx="7921440" cy="4224240"/>
              <a:chOff x="1440000" y="21747240"/>
              <a:chExt cx="7921440" cy="4224240"/>
            </a:xfrm>
          </p:grpSpPr>
          <p:pic>
            <p:nvPicPr>
              <p:cNvPr id="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00" y="21747240"/>
                <a:ext cx="7921440" cy="42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 txBox="1"/>
              <p:nvPr/>
            </p:nvSpPr>
            <p:spPr>
              <a:xfrm>
                <a:off x="1440000" y="21747240"/>
                <a:ext cx="7921440" cy="42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18146880" y="22323600"/>
              <a:ext cx="453528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22898160" y="22107600"/>
              <a:ext cx="3888720" cy="3742920"/>
              <a:chOff x="22898160" y="22107600"/>
              <a:chExt cx="3888720" cy="3742920"/>
            </a:xfrm>
          </p:grpSpPr>
          <p:pic>
            <p:nvPicPr>
              <p:cNvPr id="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735160" y="22107600"/>
                <a:ext cx="3051720" cy="37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2898160" y="2465100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9658160" y="26427240"/>
              <a:ext cx="8642160" cy="64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9937800" y="23115600"/>
              <a:ext cx="7819920" cy="586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3095640" y="26427240"/>
              <a:ext cx="6337440" cy="47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0"/>
            <a:stretch/>
          </p:blipFill>
          <p:spPr>
            <a:xfrm>
              <a:off x="18794520" y="33196320"/>
              <a:ext cx="7056360" cy="52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264360" y="38525400"/>
              <a:ext cx="208105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Gera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çã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o de empregos na agricultura e agro-indústri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Utiliza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çã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o segura para mulheres e crianças (não se espalha nem explode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Ambiente de cozinha limpo, sem fumos nem odor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4172040"/>
                  <a:tab algn="l" pos="83440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Adaptável a fogões de carv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ã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o e petróleo j</a:t>
              </a:r>
              <a:r>
                <a:rPr b="1" lang="en-GB" sz="4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á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 existent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>
              <a:off x="2160720" y="31467600"/>
              <a:ext cx="7056360" cy="682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3:14:56Z</dcterms:created>
  <dc:creator> </dc:creator>
  <dc:description/>
  <dc:language>en-US</dc:language>
  <cp:lastModifiedBy>Carlos Lucas</cp:lastModifiedBy>
  <dcterms:modified xsi:type="dcterms:W3CDTF">2006-10-13T10:54:05Z</dcterms:modified>
  <cp:revision>70</cp:revision>
  <dc:subject/>
  <dc:title>Slide 1</dc:title>
</cp:coreProperties>
</file>